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CF7-171B-4271-8A92-B89B8FD8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11A-8162-4BF5-93F3-2722D6BC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C1B-EB59-4DB4-ADBF-96768DF3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6B6-C5AD-431D-919F-13A4BBF7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241E-174A-499C-8E37-A60BC0C3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D072-79E2-4FA1-960A-2C986F9A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E669-1DCC-47EC-8C75-F56DFBBA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D937-1BE4-4CAB-B4F9-E687496D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D94A-7C22-4E2E-9483-772D2178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7EBA-1ADB-4F9E-9205-B9D73B30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BB16-D170-48A1-9EBA-B7CB2D10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719-C835-42B2-AEF6-3995A60C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DDBC-8773-4C43-B505-34076BFE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5BBE-B966-43E7-BBD8-C7FC7F58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1A3E-9DC0-40BE-AA5F-3A779AED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0103-2CC3-42BD-89D2-2CF8E4EE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18B8-2C56-429C-B1E6-9B1AD947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2DC52-D824-460A-9C62-75E7FB7B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96A12-3CF6-4552-AF38-D8E1CB7D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4D23E-E3C1-4522-96E3-B5541A51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6F3AC-EE2A-420E-9B0C-FEC65C0F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C032A-4973-444B-8CEE-74A6CE79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11B-9B2E-41C1-9313-FDB6CFE9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F2CC7-3ABE-4490-B61D-C18C4A42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98F9F-9F0E-43E6-8941-4ABD0336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2C6FD-A027-4569-A3D8-832A9FEA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CF553-5E42-4E6B-8615-F11DA9AA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224F9-7777-4674-AD8D-784B458B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8D8AF-D82B-4D74-A73F-27168D57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78BC2-B2E0-4D5F-A010-F93FE293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4BE-D2AE-4F02-A54D-FB0844EE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988-E039-413E-9F42-B1FC7143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C8B-D793-460A-9D30-C19FE4AF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7F5-52BB-4666-B4D0-2B688754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D85-DB19-4DB0-9849-4A8FF767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BAA-19FD-4BB4-B061-936C551A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755F-5682-481B-BE29-822BD0DB3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4D3B-498B-48BE-B444-6F7D8DDD3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AD75-BE7F-4570-9BDF-BB8925340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cient Ath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981240"/>
            <a:ext cx="64008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by: Emily M.&amp; Jayden 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/15/10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Bradley Hand ITC"/>
              </a:rPr>
              <a:t>Greek Democracy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said that Athens is the best example of a Greek democra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Bradley Hand ITC"/>
              </a:rPr>
              <a:t>Greek Democracy! (cont.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ens was first governed by any citizens 18 years or older, also called an assemb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Bradley Hand ITC"/>
              </a:rPr>
              <a:t>Greek Democracy! (cont.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was not working so they chose 500 citizens for the panel in the assembly. That year they were chosen by pulling lots or sticks with numbers on th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Bradley Hand ITC"/>
              </a:rPr>
              <a:t>Greek Democracy! (cont.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uncil had to approved any decisions that were m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Bradley Hand ITC"/>
              </a:rPr>
              <a:t>Surrounding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ens was near the city-states of Meguro, Corinth, Argos, Spar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citystatemap"/>
          <p:cNvPicPr/>
          <p:nvPr/>
        </p:nvPicPr>
        <p:blipFill>
          <a:blip r:embed="rId1"/>
          <a:stretch/>
        </p:blipFill>
        <p:spPr>
          <a:xfrm>
            <a:off x="4495680" y="2666880"/>
            <a:ext cx="4114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Bradley Hand ITC"/>
              </a:rPr>
              <a:t>Govern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remembered for their government and their ru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Bradley Hand ITC"/>
              </a:rPr>
              <a:t>Greek Dark 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ens was a small village, home to the  tribe of the Ionian peop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crystalinks.com/templehepha.g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7000" y="1984320"/>
            <a:ext cx="55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greece.mrdonn.org/athens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0-12-20T18:11:4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